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8.xml" ContentType="application/vnd.openxmlformats-officedocument.drawingml.chart+xml"/>
  <Override PartName="/ppt/charts/chart7.xml" ContentType="application/vnd.openxmlformats-officedocument.drawingml.chart+xml"/>
  <Override PartName="/ppt/charts/chart6.xml" ContentType="application/vnd.openxmlformats-officedocument.drawingml.chart+xml"/>
  <Override PartName="/ppt/charts/_rels/chart6.xml.rels" ContentType="application/vnd.openxmlformats-package.relationships+xml"/>
  <Override PartName="/ppt/charts/_rels/chart3.xml.rels" ContentType="application/vnd.openxmlformats-package.relationships+xml"/>
  <Override PartName="/ppt/charts/_rels/chart2.xml.rels" ContentType="application/vnd.openxmlformats-package.relationships+xml"/>
  <Override PartName="/ppt/charts/chart5.xml" ContentType="application/vnd.openxmlformats-officedocument.drawingml.chart+xml"/>
  <Override PartName="/ppt/charts/chart4.xml" ContentType="application/vnd.openxmlformats-officedocument.drawingml.chart+xml"/>
  <Override PartName="/ppt/charts/chart3.xml" ContentType="application/vnd.openxmlformats-officedocument.drawingml.chart+xml"/>
  <Override PartName="/ppt/charts/chart2.xml" ContentType="application/vnd.openxmlformats-officedocument.drawingml.chart+xml"/>
  <Override PartName="/ppt/charts/chart13.xml" ContentType="application/vnd.openxmlformats-officedocument.drawingml.char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drawings/drawing1.xml" ContentType="application/vnd.openxmlformats-officedocument.drawingml.chartshapes+xml"/>
  <Override PartName="/ppt/drawings/drawing2.xml" ContentType="application/vnd.openxmlformats-officedocument.drawingml.chartshapes+xml"/>
  <Override PartName="/ppt/drawings/drawing3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charts/_rels/chart2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_rels/chart3.xml.rels><?xml version="1.0" encoding="UTF-8"?>
<Relationships xmlns="http://schemas.openxmlformats.org/package/2006/relationships"><Relationship Id="rId1" Type="http://schemas.openxmlformats.org/officeDocument/2006/relationships/chartUserShapes" Target="../drawings/drawing2.xml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chartUserShapes" Target="../drawings/drawing3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b05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3,2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базовый уровень (районный бюджет - 1)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99694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6,8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7.6</c:v>
                </c:pt>
              </c:numCache>
            </c:numRef>
          </c:val>
        </c:ser>
        <c:gapWidth val="150"/>
        <c:shape val="box"/>
        <c:axId val="89748923"/>
        <c:axId val="51779188"/>
        <c:axId val="0"/>
      </c:bar3DChart>
      <c:catAx>
        <c:axId val="89748923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779188"/>
        <c:auto val="1"/>
        <c:lblAlgn val="ctr"/>
        <c:lblOffset val="100"/>
        <c:noMultiLvlLbl val="0"/>
      </c:catAx>
      <c:valAx>
        <c:axId val="5177918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748923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ельское хозяйство, рыбохозяйственная деятельность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326.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Топливо и энергетика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94.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Транспорт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6.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Другая деятельность в области национальной экономики</c:v>
                </c:pt>
              </c:strCache>
            </c:strRef>
          </c:tx>
          <c:spPr>
            <a:solidFill>
              <a:srgbClr val="8064a2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220039265499526"/>
                  <c:y val="-0.062655521055276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1</c:v>
                </c:pt>
              </c:numCache>
            </c:numRef>
          </c:val>
        </c:ser>
        <c:gapWidth val="150"/>
        <c:shape val="box"/>
        <c:axId val="58956360"/>
        <c:axId val="83668961"/>
        <c:axId val="0"/>
      </c:bar3DChart>
      <c:catAx>
        <c:axId val="58956360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0" lang="ru-RU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541,4 тыс. рублей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668961"/>
        <c:auto val="1"/>
        <c:lblAlgn val="ctr"/>
        <c:lblOffset val="100"/>
        <c:noMultiLvlLbl val="0"/>
      </c:catAx>
      <c:valAx>
        <c:axId val="8366896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58956360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6723617811846"/>
          <c:y val="0.153070846725184"/>
          <c:w val="0.334415873716769"/>
          <c:h val="0.8259565580173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нтов</a:t>
            </a:r>
          </a:p>
        </c:rich>
      </c:tx>
      <c:layout>
        <c:manualLayout>
          <c:xMode val="edge"/>
          <c:yMode val="edge"/>
          <c:x val="0.693952079807607"/>
          <c:y val="0.021898324179693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центов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8eb4e3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9969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Сельское хозяйство, рыбохозяйственная деятельность</c:v>
                </c:pt>
                <c:pt idx="1">
                  <c:v>Топливо и энергетика</c:v>
                </c:pt>
                <c:pt idx="2">
                  <c:v>Транспорт</c:v>
                </c:pt>
                <c:pt idx="3">
                  <c:v>Другая деятельность в области национальной экономи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0.3</c:v>
                </c:pt>
                <c:pt idx="1">
                  <c:v>35.9</c:v>
                </c:pt>
                <c:pt idx="2">
                  <c:v>3</c:v>
                </c:pt>
                <c:pt idx="3">
                  <c:v>0.8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13486030271354"/>
          <c:y val="0.614669573323715"/>
          <c:w val="0.773027692041245"/>
          <c:h val="0.36966654641246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</a:p>
        </c:rich>
      </c:tx>
      <c:layout>
        <c:manualLayout>
          <c:xMode val="edge"/>
          <c:yMode val="edge"/>
          <c:x val="0.0580949835159939"/>
          <c:y val="0.00965132875688167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ac09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ЩЕГОСУДАРСТВЕННАЯ ДЕЯТЕЛЬНОСТЬ</c:v>
                </c:pt>
                <c:pt idx="1">
                  <c:v>НАЦИОНАЛЬНАЯ ЭКОНОМИКА</c:v>
                </c:pt>
                <c:pt idx="2">
                  <c:v>ЖИЛИЩНО-КОММУНАЛЬНЫЕ УСЛУГИ И ЖИЛИЩНОЕ СТРОИТЕЛЬСТВО</c:v>
                </c:pt>
                <c:pt idx="3">
                  <c:v>СОЦИАЛЬНАЯ СФЕ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376.1</c:v>
                </c:pt>
                <c:pt idx="1">
                  <c:v>541.4</c:v>
                </c:pt>
                <c:pt idx="2">
                  <c:v>2573.1</c:v>
                </c:pt>
                <c:pt idx="3">
                  <c:v>13251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019186730914502"/>
          <c:y val="0.604578134147721"/>
          <c:w val="0.927048939306787"/>
          <c:h val="0.37903009453167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e6b9b8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ccc1da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650.4</c:v>
                </c:pt>
                <c:pt idx="1">
                  <c:v>3765.2</c:v>
                </c:pt>
                <c:pt idx="2">
                  <c:v>892.8</c:v>
                </c:pt>
                <c:pt idx="3">
                  <c:v>942.6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06969386674199"/>
          <c:y val="0.642056035232712"/>
          <c:w val="0.786061226651602"/>
          <c:h val="0.34335873371100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95782549816212"/>
          <c:y val="0.116926173701971"/>
          <c:w val="0.573921454826852"/>
          <c:h val="0.764845183825706"/>
        </c:manualLayout>
      </c:layout>
      <c:barChart>
        <c:barDir val="bar"/>
        <c:grouping val="percentStacked"/>
        <c:varyColors val="0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invertIfNegative val="0"/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всего райбюдж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38.0901349707467</c:v>
                </c:pt>
                <c:pt idx="1">
                  <c:v>0.0926837745467184</c:v>
                </c:pt>
                <c:pt idx="2">
                  <c:v>17.2884203209176</c:v>
                </c:pt>
                <c:pt idx="3">
                  <c:v>17.0711927243237</c:v>
                </c:pt>
                <c:pt idx="4">
                  <c:v>7.13085790418815</c:v>
                </c:pt>
                <c:pt idx="5">
                  <c:v>0.333082314777269</c:v>
                </c:pt>
                <c:pt idx="6">
                  <c:v>0.437351561142328</c:v>
                </c:pt>
                <c:pt idx="7">
                  <c:v>16.3586862074958</c:v>
                </c:pt>
                <c:pt idx="8">
                  <c:v>96.8024097781382</c:v>
                </c:pt>
              </c:numCache>
            </c:numRef>
          </c:val>
        </c:ser>
        <c:ser>
          <c:idx val="2"/>
          <c:order val="2"/>
          <c:tx>
            <c:strRef>
              <c:f>label 1</c:f>
              <c:strCache>
                <c:ptCount val="1"/>
                <c:pt idx="0">
                  <c:v>всего сельские Советы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.2707524763946</c:v>
                </c:pt>
                <c:pt idx="1">
                  <c:v>0</c:v>
                </c:pt>
                <c:pt idx="2">
                  <c:v>0.45762613682442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.0347564154550194</c:v>
                </c:pt>
                <c:pt idx="7">
                  <c:v>0.412732433528355</c:v>
                </c:pt>
                <c:pt idx="8">
                  <c:v>3.1758674622024</c:v>
                </c:pt>
              </c:numCache>
            </c:numRef>
          </c:val>
        </c:ser>
        <c:gapWidth val="150"/>
        <c:overlap val="100"/>
        <c:axId val="22758876"/>
        <c:axId val="99366120"/>
      </c:barChart>
      <c:catAx>
        <c:axId val="22758876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366120"/>
        <c:crosses val="autoZero"/>
        <c:auto val="1"/>
        <c:lblAlgn val="ctr"/>
        <c:lblOffset val="100"/>
        <c:noMultiLvlLbl val="0"/>
      </c:catAx>
      <c:valAx>
        <c:axId val="9936612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58876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30865298840321"/>
          <c:y val="0.0854206049149338"/>
          <c:w val="0.534615832137455"/>
          <c:h val="0.76860822306238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на          1.07.2018 г.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1">
                  <c:v>2821.9</c:v>
                </c:pt>
                <c:pt idx="2">
                  <c:v>30.1</c:v>
                </c:pt>
                <c:pt idx="3">
                  <c:v>2032.4</c:v>
                </c:pt>
                <c:pt idx="4">
                  <c:v>1082.2</c:v>
                </c:pt>
                <c:pt idx="5">
                  <c:v>417.8</c:v>
                </c:pt>
                <c:pt idx="6">
                  <c:v>568.9</c:v>
                </c:pt>
                <c:pt idx="7">
                  <c:v>131.8</c:v>
                </c:pt>
                <c:pt idx="8">
                  <c:v>7085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оступило доходов  на          1.07.2019 г.   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602</c:v>
                </c:pt>
                <c:pt idx="7">
                  <c:v>469.5</c:v>
                </c:pt>
                <c:pt idx="8">
                  <c:v>7095.3</c:v>
                </c:pt>
              </c:numCache>
            </c:numRef>
          </c:val>
        </c:ser>
        <c:gapWidth val="150"/>
        <c:overlap val="0"/>
        <c:axId val="66524083"/>
        <c:axId val="38665669"/>
      </c:barChart>
      <c:catAx>
        <c:axId val="6652408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665669"/>
        <c:crosses val="autoZero"/>
        <c:auto val="1"/>
        <c:lblAlgn val="ctr"/>
        <c:lblOffset val="100"/>
        <c:noMultiLvlLbl val="0"/>
      </c:catAx>
      <c:valAx>
        <c:axId val="38665669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524083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(снижение) собственных доходов бюджетов района
 за 1 полугодие 2019 года к 1 полугодию 2018 года, тыс.рублей 
(прирост +, снижение -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316487608113874"/>
          <c:y val="0.171836007130125"/>
          <c:w val="0.78986153667145"/>
          <c:h val="0.67831253713606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рирост +, снижение -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1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итого по Советам</c:v>
                </c:pt>
                <c:pt idx="9">
                  <c:v>районный бюджет</c:v>
                </c:pt>
                <c:pt idx="10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6.3</c:v>
                </c:pt>
                <c:pt idx="1">
                  <c:v>25.6</c:v>
                </c:pt>
                <c:pt idx="2">
                  <c:v>0.3</c:v>
                </c:pt>
                <c:pt idx="3">
                  <c:v>10.8</c:v>
                </c:pt>
                <c:pt idx="4">
                  <c:v>2.8</c:v>
                </c:pt>
                <c:pt idx="5">
                  <c:v>0</c:v>
                </c:pt>
                <c:pt idx="6">
                  <c:v>-2.6</c:v>
                </c:pt>
                <c:pt idx="7">
                  <c:v>6.5</c:v>
                </c:pt>
                <c:pt idx="8">
                  <c:v>49.7</c:v>
                </c:pt>
                <c:pt idx="9">
                  <c:v>-39.5</c:v>
                </c:pt>
                <c:pt idx="10">
                  <c:v>10.2</c:v>
                </c:pt>
              </c:numCache>
            </c:numRef>
          </c:val>
        </c:ser>
        <c:gapWidth val="150"/>
        <c:overlap val="0"/>
        <c:axId val="28510642"/>
        <c:axId val="59038321"/>
      </c:barChart>
      <c:catAx>
        <c:axId val="28510642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high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038321"/>
        <c:crosses val="autoZero"/>
        <c:auto val="1"/>
        <c:lblAlgn val="ctr"/>
        <c:lblOffset val="100"/>
        <c:noMultiLvlLbl val="0"/>
      </c:catAx>
      <c:valAx>
        <c:axId val="5903832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8510642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а доходов консолидированного бюджета района                                   за 1 полугодие 2019 года, тыс.рублей   </a:t>
            </a:r>
          </a:p>
        </c:rich>
      </c:tx>
      <c:layout>
        <c:manualLayout>
          <c:xMode val="edge"/>
          <c:yMode val="edge"/>
          <c:x val="0.161462979482605"/>
          <c:y val="0.00206758034026465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23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966916185083194"/>
          <c:y val="0.145912098298677"/>
          <c:w val="0.78741806616763"/>
          <c:h val="0.71845463137996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за 1 полугодие  2019 года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672a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b474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8aa64f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72599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4299b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dc853e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3a9ce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d09493"/>
              </a:soli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b8cd97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a99bb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Налоги, уплачиваемые при особых режимах налогообложения</c:v>
                </c:pt>
                <c:pt idx="6">
                  <c:v>Доходы от размещения денежных средств бюджетов</c:v>
                </c:pt>
                <c:pt idx="7">
                  <c:v>Компенсации расходов государства</c:v>
                </c:pt>
                <c:pt idx="8">
                  <c:v>Возврат средств полученных и неиспользованных организациями в прошлом году</c:v>
                </c:pt>
                <c:pt idx="9">
                  <c:v>Прочие платеж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21.3</c:v>
                </c:pt>
                <c:pt idx="7">
                  <c:v>479.9</c:v>
                </c:pt>
                <c:pt idx="8">
                  <c:v>286.1</c:v>
                </c:pt>
                <c:pt idx="9">
                  <c:v>284.2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9814218671217"/>
          <c:y val="0.075023629489603"/>
          <c:w val="0.832990730326184"/>
          <c:h val="0.794541587901701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алоговые и неналоговые доход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370735098186874</c:v>
                </c:pt>
                <c:pt idx="1">
                  <c:v>0.88339222614841</c:v>
                </c:pt>
                <c:pt idx="2">
                  <c:v>0.31570410704976</c:v>
                </c:pt>
                <c:pt idx="3">
                  <c:v>0.362045994323119</c:v>
                </c:pt>
                <c:pt idx="4">
                  <c:v>0.30991137114059</c:v>
                </c:pt>
                <c:pt idx="5">
                  <c:v>0.254880380003476</c:v>
                </c:pt>
                <c:pt idx="6">
                  <c:v>0.312807739095175</c:v>
                </c:pt>
                <c:pt idx="7">
                  <c:v>0.376527834096044</c:v>
                </c:pt>
                <c:pt idx="8">
                  <c:v>96.8139952499566</c:v>
                </c:pt>
                <c:pt idx="9">
                  <c:v>10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Дотации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0.434006317813487</c:v>
                </c:pt>
                <c:pt idx="1">
                  <c:v>0.719681362450213</c:v>
                </c:pt>
                <c:pt idx="2">
                  <c:v>0.401043812663096</c:v>
                </c:pt>
                <c:pt idx="3">
                  <c:v>0.225243785194341</c:v>
                </c:pt>
                <c:pt idx="4">
                  <c:v>0.395550061804697</c:v>
                </c:pt>
                <c:pt idx="5">
                  <c:v>0.332371926933114</c:v>
                </c:pt>
                <c:pt idx="6">
                  <c:v>0.395550061804697</c:v>
                </c:pt>
                <c:pt idx="7">
                  <c:v>0.447740694959484</c:v>
                </c:pt>
                <c:pt idx="8">
                  <c:v>96.6488119763769</c:v>
                </c:pt>
                <c:pt idx="9">
                  <c:v>10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венции и иные межбюджетные трансферты 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8">
                  <c:v>100</c:v>
                </c:pt>
                <c:pt idx="9">
                  <c:v>100</c:v>
                </c:pt>
              </c:numCache>
            </c:numRef>
          </c:val>
        </c:ser>
        <c:gapWidth val="150"/>
        <c:overlap val="100"/>
        <c:axId val="48546652"/>
        <c:axId val="46894173"/>
      </c:barChart>
      <c:catAx>
        <c:axId val="48546652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894173"/>
        <c:crosses val="autoZero"/>
        <c:auto val="1"/>
        <c:lblAlgn val="ctr"/>
        <c:lblOffset val="100"/>
        <c:noMultiLvlLbl val="0"/>
      </c:catAx>
      <c:valAx>
        <c:axId val="46894173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546652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23"/>
          <c:dPt>
            <c:idx val="0"/>
            <c:explosion val="23"/>
            <c:spPr>
              <a:solidFill>
                <a:srgbClr val="7030a0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23"/>
            <c:spPr>
              <a:solidFill>
                <a:srgbClr val="00b0f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5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Непрограммные</c:v>
                </c:pt>
                <c:pt idx="1">
                  <c:v>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820.7</c:v>
                </c:pt>
                <c:pt idx="1">
                  <c:v>15944.6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141495143900918"/>
          <c:y val="0.0528877779239574"/>
          <c:w val="0.468769491223381"/>
          <c:h val="0.92040520984081"/>
        </c:manualLayout>
      </c:layout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0300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761.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551.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848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637.3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d9d9d9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770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7030a0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-0.122593305064022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324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72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0314341807856472"/>
                  <c:y val="-0.039451033118219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500.1</c:v>
                </c:pt>
              </c:numCache>
            </c:numRef>
          </c:val>
        </c:ser>
        <c:gapWidth val="150"/>
        <c:shape val="box"/>
        <c:axId val="7611359"/>
        <c:axId val="33780862"/>
        <c:axId val="0"/>
      </c:bar3DChart>
      <c:catAx>
        <c:axId val="7611359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Расходы, %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33780862"/>
        <c:auto val="1"/>
        <c:lblAlgn val="ctr"/>
        <c:lblOffset val="100"/>
        <c:noMultiLvlLbl val="0"/>
      </c:catAx>
      <c:valAx>
        <c:axId val="3378086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611359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518228359671"/>
          <c:y val="0.102366631377889"/>
          <c:w val="0.335621263168943"/>
          <c:h val="0.897633368622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, %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.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4.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3.6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e6e0e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4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1.8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09493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691280439905734"/>
                  <c:y val="0.0023515905640113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0.4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-0.0329222678961597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2.8</c:v>
                </c:pt>
              </c:numCache>
            </c:numRef>
          </c:val>
        </c:ser>
        <c:gapWidth val="150"/>
        <c:shape val="box"/>
        <c:axId val="81844030"/>
        <c:axId val="70848464"/>
        <c:axId val="0"/>
      </c:bar3DChart>
      <c:catAx>
        <c:axId val="81844030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Всего расходов 17765,3 тыс. рублей</a:t>
                </a:r>
              </a:p>
            </c:rich>
          </c:tx>
          <c:layout>
            <c:manualLayout>
              <c:xMode val="edge"/>
              <c:yMode val="edge"/>
              <c:x val="0.109379175202637"/>
              <c:y val="0.865551259832022"/>
            </c:manualLayout>
          </c:layout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848464"/>
        <c:auto val="1"/>
        <c:lblAlgn val="ctr"/>
        <c:lblOffset val="100"/>
        <c:noMultiLvlLbl val="0"/>
      </c:catAx>
      <c:valAx>
        <c:axId val="7084846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1844030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003989583786"/>
          <c:y val="0.0884331370588453"/>
          <c:w val="0.336142907509697"/>
          <c:h val="0.88427489538199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209634358676727</cdr:x>
      <cdr:y>0.0300751879699248</cdr:y>
    </cdr:from>
    <cdr:to>
      <cdr:x>0.762391178177597</cdr:x>
      <cdr:y>0.10271742347996</cdr:y>
    </cdr:to>
    <cdr:sp>
      <cdr:nvSpPr>
        <cdr:cNvPr id="172" name="TextBox 2"/>
        <cdr:cNvSpPr/>
      </cdr:nvSpPr>
      <cdr:spPr>
        <a:xfrm>
          <a:off x="1950480" y="182880"/>
          <a:ext cx="5142960" cy="44172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100" spc="-1" strike="noStrike">
              <a:solidFill>
                <a:srgbClr val="000000"/>
              </a:solidFill>
              <a:latin typeface="Times New Roman"/>
            </a:rPr>
            <a:t>Структура собственных доходов консолидированного бюджета Сенненского района в разрезе бюджетов за 1 полугодие 2019 года, тыс.рублей</a:t>
          </a:r>
          <a:endParaRPr b="0" sz="11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2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18488926812241</cdr:x>
      <cdr:y>0</cdr:y>
    </cdr:from>
    <cdr:to>
      <cdr:x>0.874840010859869</cdr:x>
      <cdr:y>0.0907372400756144</cdr:y>
    </cdr:to>
    <cdr:sp>
      <cdr:nvSpPr>
        <cdr:cNvPr id="174" name="TextBox 1"/>
        <cdr:cNvSpPr/>
      </cdr:nvSpPr>
      <cdr:spPr>
        <a:xfrm>
          <a:off x="1099800" y="0"/>
          <a:ext cx="7020360" cy="5529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равнительный анализ поступления собственных  доходов бюджета Сенненского района за 1 полугодие 2018 и 1 полугодие 2019 годы, тыс.рублей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3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45987666291743</cdr:x>
      <cdr:y>0.0128780718336484</cdr:y>
    </cdr:from>
    <cdr:to>
      <cdr:x>0.875887212504363</cdr:x>
      <cdr:y>0.0708293950850662</cdr:y>
    </cdr:to>
    <cdr:sp>
      <cdr:nvSpPr>
        <cdr:cNvPr id="178" name="TextBox 1"/>
        <cdr:cNvSpPr/>
      </cdr:nvSpPr>
      <cdr:spPr>
        <a:xfrm>
          <a:off x="1355040" y="78480"/>
          <a:ext cx="6774840" cy="3531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труктура доходов бюджета Сенненского  района за 1 полугодие 2019 года, тыс.рублей 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955-077F-4353-87E4-E7DCED46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310-F4F3-4574-BE99-D7551F6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B9B-A176-4981-A8BB-3FACE9A6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BD7-2086-4896-98CD-7DE702F7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419-4E39-4252-B381-272C0958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5B4-7806-4FB5-9873-0791DC2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854E-7764-4955-9AC2-ED6D4932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E0BD-6482-4FAE-9419-9C920BB1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196-9864-4E0C-9BF7-F2F2DD34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7D81-D1F8-4490-9FFD-4F02335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CA6E-16F3-4451-A180-8384260D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FE7-E42C-4DB0-A437-728F1FF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21D9-57BA-48E8-8969-5613649D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DA7-6065-4EA2-B9C4-E6BFF25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66E3-B202-4745-8A63-E901E25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2965-26A4-46BB-9112-E73DC7B1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039-F4A8-4B7A-92F1-97319FB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24BE-E240-45F2-B50B-FEA1E7D9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4424-CEF3-4C84-B4CD-C40846E5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E84F-C7C5-464F-A8E6-31EBC74B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9C89-1439-4327-A7DF-3003EBB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1BD2-0F30-40A2-B2F5-CEB4FAD4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8F14-8A63-4757-AC3A-92455BB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25DF-3C11-435A-A912-6D32793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8ED8-5257-4E4C-AEE5-2674453F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BEF8-B3EE-437A-AEE3-D326898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E759-4A0C-4D30-AED3-D73362C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376E-56BA-4B58-8E81-F34A9B1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4680-44F3-4C96-8516-C3BD0AF8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187CB-A7E9-47B7-9A9C-277F0F22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A5328-E4D6-4009-91CB-C7980881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D978-46FE-4034-AFB4-674B50E6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8116B-5BB4-4892-A5DA-7E3172ED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16B-07D2-4077-AC6E-EEEF2343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467D-E934-4E0B-B0F8-412E94D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31A0-A813-401E-B84C-C3C39681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A0C2-AE4C-4EA8-BF14-319007F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BC9AB-B99F-416F-8A25-F120249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0BE9-DE42-42EA-9F90-D5F707E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DC37B-CED8-4888-A739-1FE4E3F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B433-E385-41C8-BBE2-2876952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1355-1E0B-4EC5-9518-2F83F14B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7BC30-0E53-4EE3-B01F-5473D595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863-5D47-4243-A7E3-EDAEFC89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EDE-6839-4F2A-811A-23AF20A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84A-7A3C-4C2F-B722-C2B8E3B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1F6-003A-4443-8461-BBB94A1A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612-A348-4520-9EB4-B46C24D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C32F77-FFC2-4051-932B-884E2C8CFFF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E2E58E-92E5-4A74-964A-AE13D5975E8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84E592-0453-41A5-B65C-23E0D1D0B0F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DC8DDE-9402-4B95-B7CA-42C3473D93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chart" Target="../charts/chart11.xm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chart" Target="../charts/chart13.xm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152880" y="2500200"/>
            <a:ext cx="5764320" cy="4000320"/>
          </a:xfrm>
          <a:prstGeom prst="rect">
            <a:avLst/>
          </a:prstGeom>
          <a:ln w="9525">
            <a:noFill/>
          </a:ln>
        </p:spPr>
      </p:pic>
      <p:sp>
        <p:nvSpPr>
          <p:cNvPr id="168" name="TextBox 3"/>
          <p:cNvSpPr/>
          <p:nvPr/>
        </p:nvSpPr>
        <p:spPr>
          <a:xfrm>
            <a:off x="214200" y="285840"/>
            <a:ext cx="71434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юллетень об исполнении консолидированного  бюджета Сенненского района   за 1 полугодие 2019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6"/>
          <p:cNvSpPr/>
          <p:nvPr/>
        </p:nvSpPr>
        <p:spPr>
          <a:xfrm>
            <a:off x="3008520" y="2946960"/>
            <a:ext cx="2943000" cy="1554480"/>
          </a:xfrm>
          <a:prstGeom prst="ellipse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Государственные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15</a:t>
            </a:r>
            <a:r>
              <a:rPr b="1" lang="en-US" sz="1200" spc="-1" strike="noStrike">
                <a:solidFill>
                  <a:schemeClr val="lt1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944,6 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 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(90,0% расходов) бюдж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решение 7"/>
          <p:cNvSpPr/>
          <p:nvPr/>
        </p:nvSpPr>
        <p:spPr>
          <a:xfrm>
            <a:off x="4565880" y="54360"/>
            <a:ext cx="2771280" cy="15616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Увековечивание погибших при защите Отечества и сохранение памяти о жертвах войн 10,2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решение 8"/>
          <p:cNvSpPr/>
          <p:nvPr/>
        </p:nvSpPr>
        <p:spPr>
          <a:xfrm>
            <a:off x="2349360" y="201960"/>
            <a:ext cx="2152440" cy="12254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храна окружающей среды 14,8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решение 9"/>
          <p:cNvSpPr/>
          <p:nvPr/>
        </p:nvSpPr>
        <p:spPr>
          <a:xfrm>
            <a:off x="139320" y="577440"/>
            <a:ext cx="2209320" cy="13928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троительство жилья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11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,9 тыс.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решение 10"/>
          <p:cNvSpPr/>
          <p:nvPr/>
        </p:nvSpPr>
        <p:spPr>
          <a:xfrm>
            <a:off x="7109640" y="457200"/>
            <a:ext cx="199980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ее транспортного комплекса  16,1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лок-схема: решение 11"/>
          <p:cNvSpPr/>
          <p:nvPr/>
        </p:nvSpPr>
        <p:spPr>
          <a:xfrm>
            <a:off x="6595920" y="2185560"/>
            <a:ext cx="2496960" cy="11808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физической культуры и спорта 259,6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Блок-схема: решение 12"/>
          <p:cNvSpPr/>
          <p:nvPr/>
        </p:nvSpPr>
        <p:spPr>
          <a:xfrm>
            <a:off x="6323760" y="3699360"/>
            <a:ext cx="2819880" cy="126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бразование и молодежная политика 7 802,3 тыс. руб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решение 13"/>
          <p:cNvSpPr/>
          <p:nvPr/>
        </p:nvSpPr>
        <p:spPr>
          <a:xfrm>
            <a:off x="5721120" y="5180760"/>
            <a:ext cx="3447720" cy="11520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оциальная защита и содействие занятости 688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решение 14"/>
          <p:cNvSpPr/>
          <p:nvPr/>
        </p:nvSpPr>
        <p:spPr>
          <a:xfrm>
            <a:off x="3053520" y="5572080"/>
            <a:ext cx="3438000" cy="11332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Здоровье народа и демографическая безопасность 3 677,1 тыс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Блок-схема: решение 15"/>
          <p:cNvSpPr/>
          <p:nvPr/>
        </p:nvSpPr>
        <p:spPr>
          <a:xfrm>
            <a:off x="1000080" y="5124600"/>
            <a:ext cx="2752200" cy="8949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ультура Беларуси 575,9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решение 16"/>
          <p:cNvSpPr/>
          <p:nvPr/>
        </p:nvSpPr>
        <p:spPr>
          <a:xfrm>
            <a:off x="0" y="2305080"/>
            <a:ext cx="2800080" cy="8186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аграрного бизнеса 326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лок-схема: решение 17"/>
          <p:cNvSpPr/>
          <p:nvPr/>
        </p:nvSpPr>
        <p:spPr>
          <a:xfrm>
            <a:off x="0" y="3519360"/>
            <a:ext cx="296496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омфортное жилье и благоприятная среда 2 561,3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единительная линия 18"/>
          <p:cNvCxnSpPr/>
          <p:nvPr/>
        </p:nvCxnSpPr>
        <p:spPr>
          <a:xfrm flipV="1">
            <a:off x="5057640" y="1427400"/>
            <a:ext cx="651960" cy="15159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6" name="Прямая соединительная линия 19"/>
          <p:cNvCxnSpPr/>
          <p:nvPr/>
        </p:nvCxnSpPr>
        <p:spPr>
          <a:xfrm flipH="1" flipV="1">
            <a:off x="3562200" y="1391040"/>
            <a:ext cx="1154160" cy="1552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7" name="Прямая соединительная линия 20"/>
          <p:cNvCxnSpPr/>
          <p:nvPr/>
        </p:nvCxnSpPr>
        <p:spPr>
          <a:xfrm flipH="1" flipV="1">
            <a:off x="1414440" y="1844640"/>
            <a:ext cx="2338560" cy="11703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8" name="Прямая соединительная линия 21"/>
          <p:cNvCxnSpPr/>
          <p:nvPr/>
        </p:nvCxnSpPr>
        <p:spPr>
          <a:xfrm flipH="1" flipV="1">
            <a:off x="1800720" y="3014640"/>
            <a:ext cx="1253160" cy="51948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9" name="Прямая соединительная линия 22"/>
          <p:cNvCxnSpPr/>
          <p:nvPr/>
        </p:nvCxnSpPr>
        <p:spPr>
          <a:xfrm flipH="1">
            <a:off x="2349000" y="4333320"/>
            <a:ext cx="1213560" cy="229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0" name="Прямая соединительная линия 23"/>
          <p:cNvCxnSpPr>
            <a:stCxn id="183" idx="4"/>
          </p:cNvCxnSpPr>
          <p:nvPr/>
        </p:nvCxnSpPr>
        <p:spPr>
          <a:xfrm flipH="1">
            <a:off x="3411720" y="4501440"/>
            <a:ext cx="1068840" cy="9471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1" name="Прямая соединительная линия 24"/>
          <p:cNvCxnSpPr>
            <a:endCxn id="191" idx="0"/>
          </p:cNvCxnSpPr>
          <p:nvPr/>
        </p:nvCxnSpPr>
        <p:spPr>
          <a:xfrm>
            <a:off x="4772880" y="4510800"/>
            <a:ext cx="360" cy="106164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2" name="Прямая соединительная линия 25"/>
          <p:cNvCxnSpPr/>
          <p:nvPr/>
        </p:nvCxnSpPr>
        <p:spPr>
          <a:xfrm flipH="1">
            <a:off x="5453280" y="1623960"/>
            <a:ext cx="2284920" cy="14767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3" name="Прямая соединительная линия 26"/>
          <p:cNvCxnSpPr/>
          <p:nvPr/>
        </p:nvCxnSpPr>
        <p:spPr>
          <a:xfrm flipH="1">
            <a:off x="5931720" y="3247920"/>
            <a:ext cx="1633320" cy="2599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4" name="Прямая соединительная линия 27"/>
          <p:cNvCxnSpPr/>
          <p:nvPr/>
        </p:nvCxnSpPr>
        <p:spPr>
          <a:xfrm flipH="1">
            <a:off x="5891400" y="4005000"/>
            <a:ext cx="1190880" cy="144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5" name="Прямая соединительная линия 28"/>
          <p:cNvCxnSpPr/>
          <p:nvPr/>
        </p:nvCxnSpPr>
        <p:spPr>
          <a:xfrm>
            <a:off x="5540760" y="4287600"/>
            <a:ext cx="1055160" cy="11610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sp>
        <p:nvSpPr>
          <p:cNvPr id="206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95640" y="5517360"/>
            <a:ext cx="641520" cy="875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115640" y="938160"/>
            <a:ext cx="2736000" cy="749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60800" y="946080"/>
            <a:ext cx="640440" cy="7416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1130040" y="5479200"/>
            <a:ext cx="2649240" cy="9140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65040" y="1983240"/>
            <a:ext cx="6404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249560" y="938160"/>
            <a:ext cx="23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650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115640" y="1914840"/>
            <a:ext cx="2750040" cy="7826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096560" y="198324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765,2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4"/>
          <a:stretch/>
        </p:blipFill>
        <p:spPr>
          <a:xfrm>
            <a:off x="396720" y="2851560"/>
            <a:ext cx="640440" cy="8449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0"/>
          <p:cNvSpPr/>
          <p:nvPr/>
        </p:nvSpPr>
        <p:spPr>
          <a:xfrm>
            <a:off x="1112040" y="2851560"/>
            <a:ext cx="2739240" cy="801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167120" y="357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122120" y="2929680"/>
            <a:ext cx="2729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41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5"/>
          <a:stretch/>
        </p:blipFill>
        <p:spPr>
          <a:xfrm>
            <a:off x="251640" y="3945240"/>
            <a:ext cx="785520" cy="9234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4"/>
          <p:cNvSpPr/>
          <p:nvPr/>
        </p:nvSpPr>
        <p:spPr>
          <a:xfrm>
            <a:off x="1122120" y="3945240"/>
            <a:ext cx="2743560" cy="1235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128240" y="3980880"/>
            <a:ext cx="272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ищно-комму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, жилищ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573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868000" y="1060920"/>
            <a:ext cx="2953800" cy="1143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217160" y="5483160"/>
            <a:ext cx="256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42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4644000" y="1101240"/>
            <a:ext cx="1064520" cy="1107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9"/>
          <p:cNvSpPr/>
          <p:nvPr/>
        </p:nvSpPr>
        <p:spPr>
          <a:xfrm>
            <a:off x="5868000" y="1008720"/>
            <a:ext cx="2953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ая культура, спорт, культура и средства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92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7"/>
          <a:stretch/>
        </p:blipFill>
        <p:spPr>
          <a:xfrm>
            <a:off x="4644000" y="2563200"/>
            <a:ext cx="1064520" cy="891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1"/>
          <p:cNvSpPr/>
          <p:nvPr/>
        </p:nvSpPr>
        <p:spPr>
          <a:xfrm>
            <a:off x="5868720" y="3614760"/>
            <a:ext cx="2980080" cy="14569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5860800" y="2358000"/>
            <a:ext cx="2952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е органы обще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170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4644000" y="3654000"/>
            <a:ext cx="1064520" cy="1215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4"/>
          <p:cNvSpPr/>
          <p:nvPr/>
        </p:nvSpPr>
        <p:spPr>
          <a:xfrm>
            <a:off x="5895360" y="531576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>
            <a:off x="5868000" y="235728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9"/>
          <a:stretch/>
        </p:blipFill>
        <p:spPr>
          <a:xfrm>
            <a:off x="4390920" y="5374080"/>
            <a:ext cx="135684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7"/>
          <p:cNvSpPr/>
          <p:nvPr/>
        </p:nvSpPr>
        <p:spPr>
          <a:xfrm>
            <a:off x="5891040" y="3617280"/>
            <a:ext cx="2801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луживание долга органов местного управления и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2,0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5919840" y="5374080"/>
            <a:ext cx="289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по другим раз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7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9"/>
          <p:cNvSpPr/>
          <p:nvPr/>
        </p:nvSpPr>
        <p:spPr>
          <a:xfrm>
            <a:off x="460800" y="85680"/>
            <a:ext cx="838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 расходов консолидированного бюджета по функциональной классификации за 1 полугодие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  за 1 полугодие 2019 года, тыс. руб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Объект 3"/>
          <p:cNvGraphicFramePr/>
          <p:nvPr/>
        </p:nvGraphicFramePr>
        <p:xfrm>
          <a:off x="457200" y="1481040"/>
          <a:ext cx="7714800" cy="453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кономическая классификация консолидированного бюджета 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Объект 7"/>
          <p:cNvGraphicFramePr/>
          <p:nvPr/>
        </p:nvGraphicFramePr>
        <p:xfrm>
          <a:off x="457200" y="1124640"/>
          <a:ext cx="4039920" cy="547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0" name="Объект 8"/>
          <p:cNvGraphicFramePr/>
          <p:nvPr/>
        </p:nvGraphicFramePr>
        <p:xfrm>
          <a:off x="4645080" y="1124640"/>
          <a:ext cx="4041360" cy="54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и структура расходов консолидированного бюджета на национальную экономик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Объект 6"/>
          <p:cNvGraphicFramePr/>
          <p:nvPr/>
        </p:nvGraphicFramePr>
        <p:xfrm>
          <a:off x="457200" y="1124640"/>
          <a:ext cx="4039920" cy="518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3" name="Объект 7"/>
          <p:cNvGraphicFramePr/>
          <p:nvPr/>
        </p:nvGraphicFramePr>
        <p:xfrm>
          <a:off x="4645080" y="1196640"/>
          <a:ext cx="4041360" cy="511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39052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 расходов консолидированного бюджета Сенненского района по функциональной классификации за 1 полугодие  2019 года (в процента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Объект 6"/>
          <p:cNvGraphicFramePr/>
          <p:nvPr/>
        </p:nvGraphicFramePr>
        <p:xfrm>
          <a:off x="457200" y="1444680"/>
          <a:ext cx="4039920" cy="5296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6" name="Объект 7"/>
          <p:cNvGraphicFramePr/>
          <p:nvPr/>
        </p:nvGraphicFramePr>
        <p:xfrm>
          <a:off x="4645080" y="1444680"/>
          <a:ext cx="4247640" cy="522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расходах на выплату государственной адресной социальной помощи, бесплатное обеспечение продуктами питания детей первых двух лет жизни по Сенненскому району за 1 полугодие 2019 года</a:t>
            </a:r>
            <a:br>
              <a:rPr sz="4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Объект 1"/>
          <p:cNvGraphicFramePr/>
          <p:nvPr/>
        </p:nvGraphicFramePr>
        <p:xfrm>
          <a:off x="457200" y="1197000"/>
          <a:ext cx="8229240" cy="5519880"/>
        </p:xfrm>
        <a:graphic>
          <a:graphicData uri="http://schemas.openxmlformats.org/drawingml/2006/table">
            <a:tbl>
              <a:tblPr/>
              <a:tblGrid>
                <a:gridCol w="3754440"/>
                <a:gridCol w="1296000"/>
                <a:gridCol w="1512000"/>
                <a:gridCol w="1666440"/>
              </a:tblGrid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Един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Процент исполнения к годовому пла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Государственная адресная социальная помощь – 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диновремен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жемесяч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социальное пособие для возмещения затрат на приобретение подгуз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9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Бесплатное обеспечение продуктами питания детей первых двух лет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Таблица 39"/>
          <p:cNvGraphicFramePr/>
          <p:nvPr/>
        </p:nvGraphicFramePr>
        <p:xfrm>
          <a:off x="484200" y="1268640"/>
          <a:ext cx="8208720" cy="468000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5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3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6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85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 24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cxnSp>
        <p:nvCxnSpPr>
          <p:cNvPr id="250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51" name="Rectangle 67"/>
          <p:cNvSpPr/>
          <p:nvPr/>
        </p:nvSpPr>
        <p:spPr>
          <a:xfrm>
            <a:off x="412200" y="33588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9 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 бюджета Сенненского район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Объект 3"/>
          <p:cNvGraphicFramePr/>
          <p:nvPr/>
        </p:nvGraphicFramePr>
        <p:xfrm>
          <a:off x="457200" y="1481040"/>
          <a:ext cx="8229240" cy="489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Диаграмма 3"/>
          <p:cNvGraphicFramePr/>
          <p:nvPr/>
        </p:nvGraphicFramePr>
        <p:xfrm>
          <a:off x="-79920" y="388800"/>
          <a:ext cx="9303840" cy="6080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Диаграмма 2"/>
          <p:cNvGraphicFramePr/>
          <p:nvPr/>
        </p:nvGraphicFramePr>
        <p:xfrm>
          <a:off x="-137880" y="76392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Диаграмма 3"/>
          <p:cNvGraphicFramePr/>
          <p:nvPr/>
        </p:nvGraphicFramePr>
        <p:xfrm>
          <a:off x="-69120" y="399600"/>
          <a:ext cx="9281520" cy="6058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нсолидированный бюджет района за 1 полугодие 2019 года исполнен по доходам в сумме 17 799,6 тыс. рублей, по расходам  - 17 765,3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ступления  собственных доходов бюджета Сенненского района составили 7095,3 тыс. рублей или 49,4 процента к годовому плану. Налоговые доходы поступили в сумме 6 083,3 тыс. рублей, неналоговые доходы – 1 012,0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из областного бюджета в структуре доходов бюджета района составили 60,1 процента ( 10 704,3 тыс. рублей), из них дотация – 57,5 процента (10 237,2 тыс. рублей), субвенции – 0,1 процента (7,1 тыс. рублей), иные межбюджетные трансферты – 2,6 процента ( 460,0 тыс. рублей)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асходы консолидированного бюджета района за 1 полугодие 2019 года профинансированы в сумме 17 765,3 тыс. рублей или 50,4 процента к годовому плану. В объеме расходов бюджета района средства, предусмотренные на текущие расходы, составляют 17 265,2,6 тыс. рублей или 97,2 процента всех расходов, из них расходы на выплату заработной платы с начислениями на нее, трансфертов населению, расчеты за лекарственные средства, продукты питания, коммунальные услуги, субсидирование жилищно-коммунальных и транспортных услуг населению, расчеты за топливо, отпускаемое населению, обслуживание долга – 15965,5 тыс. рублей или 89,9 процента. Расходы капитального характера профинансированы в сумме 500,1 тыс. рублей или 2,8 процента всех расходов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3"/>
          <p:cNvSpPr/>
          <p:nvPr/>
        </p:nvSpPr>
        <p:spPr>
          <a:xfrm>
            <a:off x="683640" y="404640"/>
            <a:ext cx="7632360" cy="1223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бвенции – 7,1 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рансферт, передаваемый бюджету области на осуществление целевых расход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flipH="1">
            <a:off x="1871640" y="2069280"/>
            <a:ext cx="475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индексированным жилищным квотам (чеки «Жилье») – 7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9"/>
          <p:cNvSpPr/>
          <p:nvPr/>
        </p:nvSpPr>
        <p:spPr>
          <a:xfrm>
            <a:off x="1691640" y="2069280"/>
            <a:ext cx="5112360" cy="636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  <Words>824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cp:lastPrinted>2019-07-18T08:22:45Z</cp:lastPrinted>
  <dcterms:modified xsi:type="dcterms:W3CDTF">2019-08-06T09:35:32Z</dcterms:modified>
  <cp:revision>1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