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3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в 1 полугодии 2018 года,   
(тыс. рублей)</a:t>
            </a:r>
          </a:p>
        </c:rich>
      </c:tx>
      <c:layout>
        <c:manualLayout>
          <c:xMode val="edge"/>
          <c:yMode val="edge"/>
          <c:x val="0.0938188976377953"/>
          <c:y val="0.0123637642095394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36220472440945"/>
          <c:y val="0.156275635767022"/>
          <c:w val="0.844409448818898"/>
          <c:h val="0.7409469119887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руктура доходов в 2017 году</c:v>
                </c:pt>
              </c:strCache>
            </c:strRef>
          </c:tx>
          <c:spPr>
            <a:solidFill>
              <a:srgbClr val="b83d68"/>
            </a:solidFill>
            <a:ln w="9360">
              <a:solidFill>
                <a:srgbClr val="652038"/>
              </a:solidFill>
              <a:round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9360">
                <a:solidFill>
                  <a:srgbClr val="652038"/>
                </a:solidFill>
                <a:round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9360">
                <a:solidFill>
                  <a:srgbClr val="652038"/>
                </a:solidFill>
                <a:round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9360">
                <a:solidFill>
                  <a:srgbClr val="652038"/>
                </a:solidFill>
                <a:round/>
              </a:ln>
            </c:spPr>
          </c:dPt>
          <c:dLbls>
            <c:numFmt formatCode="#,##0.0" sourceLinked="1"/>
            <c:dLbl>
              <c:idx val="0"/>
              <c:numFmt formatCode="#,##0.0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Налоговые 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доходы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6 280,2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40,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1"/>
              <c:numFmt formatCode="#,##0.0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Неналоговые 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доходы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804,9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5,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2"/>
              <c:numFmt formatCode="#,##0.0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 Безвозмездные 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поступления
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8 284,3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53,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 Black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3"/>
                <c:pt idx="0">
                  <c:v>Налоговые доходы</c:v>
                </c:pt>
                <c:pt idx="1">
                  <c:v>Неналоговые доходы</c:v>
                </c:pt>
                <c:pt idx="2">
                  <c:v>Безвозмездные поступл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280.2</c:v>
                </c:pt>
                <c:pt idx="1">
                  <c:v>804.9</c:v>
                </c:pt>
                <c:pt idx="2">
                  <c:v>8284.3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97086614173228"/>
          <c:y val="0.0309836371554781"/>
          <c:w val="0.640905511811024"/>
          <c:h val="0.808125427735955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solidFill>
              <a:srgbClr val="fe8637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компенсация расходов государства, внебюджет </c:v>
                </c:pt>
                <c:pt idx="1">
                  <c:v>единый налог с/х</c:v>
                </c:pt>
                <c:pt idx="2">
                  <c:v>налог при упрощенной системе</c:v>
                </c:pt>
                <c:pt idx="3">
                  <c:v>налог на недвижимость</c:v>
                </c:pt>
                <c:pt idx="4">
                  <c:v>налог на землю</c:v>
                </c:pt>
                <c:pt idx="5">
                  <c:v>НДС</c:v>
                </c:pt>
                <c:pt idx="6">
                  <c:v>подоходный налог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362.8</c:v>
                </c:pt>
                <c:pt idx="1">
                  <c:v>113.8</c:v>
                </c:pt>
                <c:pt idx="2">
                  <c:v>203.4</c:v>
                </c:pt>
                <c:pt idx="3">
                  <c:v>827.5</c:v>
                </c:pt>
                <c:pt idx="4">
                  <c:v>372</c:v>
                </c:pt>
                <c:pt idx="5">
                  <c:v>965.3</c:v>
                </c:pt>
                <c:pt idx="6">
                  <c:v>2326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8</c:v>
                </c:pt>
              </c:strCache>
            </c:strRef>
          </c:tx>
          <c:spPr>
            <a:solidFill>
              <a:srgbClr val="7598d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компенсация расходов государства, внебюджет </c:v>
                </c:pt>
                <c:pt idx="1">
                  <c:v>единый налог с/х</c:v>
                </c:pt>
                <c:pt idx="2">
                  <c:v>налог при упрощенной системе</c:v>
                </c:pt>
                <c:pt idx="3">
                  <c:v>налог на недвижимость</c:v>
                </c:pt>
                <c:pt idx="4">
                  <c:v>налог на землю</c:v>
                </c:pt>
                <c:pt idx="5">
                  <c:v>НДС</c:v>
                </c:pt>
                <c:pt idx="6">
                  <c:v>подоходный налог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420.5</c:v>
                </c:pt>
                <c:pt idx="1">
                  <c:v>138</c:v>
                </c:pt>
                <c:pt idx="2">
                  <c:v>242.1</c:v>
                </c:pt>
                <c:pt idx="3">
                  <c:v>950.2</c:v>
                </c:pt>
                <c:pt idx="4">
                  <c:v>919.3</c:v>
                </c:pt>
                <c:pt idx="5">
                  <c:v>1082.2</c:v>
                </c:pt>
                <c:pt idx="6">
                  <c:v>2821.9</c:v>
                </c:pt>
              </c:numCache>
            </c:numRef>
          </c:val>
        </c:ser>
        <c:gapWidth val="150"/>
        <c:overlap val="0"/>
        <c:axId val="43062489"/>
        <c:axId val="6583849"/>
      </c:barChart>
      <c:catAx>
        <c:axId val="43062489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6583849"/>
        <c:crosses val="autoZero"/>
        <c:auto val="1"/>
        <c:lblAlgn val="ctr"/>
        <c:lblOffset val="100"/>
        <c:noMultiLvlLbl val="0"/>
      </c:catAx>
      <c:valAx>
        <c:axId val="6583849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43062489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Franklin Gothic 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-е полугодие 2017</c:v>
                </c:pt>
              </c:strCache>
            </c:strRef>
          </c:tx>
          <c:spPr>
            <a:solidFill>
              <a:srgbClr val="fe8637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единый налог с индив. предпринимателей</c:v>
                </c:pt>
                <c:pt idx="1">
                  <c:v>налог  на недвижимость за незавершенное строительство</c:v>
                </c:pt>
                <c:pt idx="2">
                  <c:v>налог на прибыль</c:v>
                </c:pt>
                <c:pt idx="3">
                  <c:v>доходы от приватизации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0.9</c:v>
                </c:pt>
                <c:pt idx="1">
                  <c:v>17.3</c:v>
                </c:pt>
                <c:pt idx="2">
                  <c:v>47.5</c:v>
                </c:pt>
                <c:pt idx="3">
                  <c:v>10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-е полугодие 2018</c:v>
                </c:pt>
              </c:strCache>
            </c:strRef>
          </c:tx>
          <c:spPr>
            <a:solidFill>
              <a:srgbClr val="7598d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единый налог с индив. предпринимателей</c:v>
                </c:pt>
                <c:pt idx="1">
                  <c:v>налог  на недвижимость за незавершенное строительство</c:v>
                </c:pt>
                <c:pt idx="2">
                  <c:v>налог на прибыль</c:v>
                </c:pt>
                <c:pt idx="3">
                  <c:v>доходы от приватизации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7.6</c:v>
                </c:pt>
                <c:pt idx="1">
                  <c:v>1</c:v>
                </c:pt>
                <c:pt idx="2">
                  <c:v>30.1</c:v>
                </c:pt>
                <c:pt idx="3">
                  <c:v>65.4</c:v>
                </c:pt>
              </c:numCache>
            </c:numRef>
          </c:val>
        </c:ser>
        <c:gapWidth val="150"/>
        <c:overlap val="0"/>
        <c:axId val="76568788"/>
        <c:axId val="15478102"/>
      </c:barChart>
      <c:catAx>
        <c:axId val="76568788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15478102"/>
        <c:crosses val="autoZero"/>
        <c:auto val="1"/>
        <c:lblAlgn val="ctr"/>
        <c:lblOffset val="100"/>
        <c:noMultiLvlLbl val="0"/>
      </c:catAx>
      <c:valAx>
        <c:axId val="15478102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76568788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Franklin Gothic 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 расходов в 2018 году,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axId val="90750227"/>
        <c:axId val="53830985"/>
      </c:barChart>
      <c:catAx>
        <c:axId val="90750227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53830985"/>
        <c:auto val="1"/>
        <c:lblAlgn val="ctr"/>
        <c:lblOffset val="100"/>
        <c:noMultiLvlLbl val="0"/>
      </c:catAx>
      <c:valAx>
        <c:axId val="53830985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90750227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руктура расходов бюджета в 2018 году, тыс. рублей</c:v>
                </c:pt>
              </c:strCache>
            </c:strRef>
          </c:tx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граммные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383,6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8,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епрограммные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22,7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,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Программные</c:v>
                </c:pt>
                <c:pt idx="1">
                  <c:v>Непрограммны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4383.6</c:v>
                </c:pt>
                <c:pt idx="1">
                  <c:v>1922.7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государственных программ  
за 1 полугодие 2018 года,
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 финансирования государственных программ на 2018 год, тыс. рублей</c:v>
                </c:pt>
              </c:strCache>
            </c:strRef>
          </c:tx>
          <c:spPr>
            <a:solidFill>
              <a:srgbClr val="b83d6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9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180555555555556"/>
                  <c:y val="0.0020671770695046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180555555555556"/>
                  <c:y val="0.0020671770695046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25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180555555555556"/>
                  <c:y val="7.57956169510706E-017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222222222222223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9"/>
              <c:layout>
                <c:manualLayout>
                  <c:x val="-0.0416666666666667"/>
                  <c:y val="0.0413435413900936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2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”Охрана окружающей среды и устойчивое использование природных ресурсов“ на 2016-2020 годы</c:v>
                </c:pt>
                <c:pt idx="1">
                  <c:v>”Строительство жилья“ на 2016-2020 годы</c:v>
                </c:pt>
                <c:pt idx="2">
                  <c:v>Развития транспортного комплекса Республики Беларусь на 2016-2020 годы</c:v>
                </c:pt>
                <c:pt idx="3">
                  <c:v>Развития физической культуры и спорта в Республике Беларусь на 2016-2020 годы</c:v>
                </c:pt>
                <c:pt idx="4">
                  <c:v>Развития аграрного бизнеса в Республике Беларусь на 2016 – 2020 годы</c:v>
                </c:pt>
                <c:pt idx="5">
                  <c:v>”Культура Беларуси“ на 2016 – 2020 годы</c:v>
                </c:pt>
                <c:pt idx="6">
                  <c:v>О социальной защите и содействии занятости населения на 2016-2020 годы</c:v>
                </c:pt>
                <c:pt idx="7">
                  <c:v>”Комфортное жилье и благоприятная среда“ на 2016-2020 годы</c:v>
                </c:pt>
                <c:pt idx="8">
                  <c:v>”Здоровье народа и демографическая безопасность Республики Беларусь“ на 2016-2020 годы</c:v>
                </c:pt>
                <c:pt idx="9">
                  <c:v>”Образование и молодежная политика“ на 2016-2020 г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0.6</c:v>
                </c:pt>
                <c:pt idx="1">
                  <c:v>11.9</c:v>
                </c:pt>
                <c:pt idx="2">
                  <c:v>15.8</c:v>
                </c:pt>
                <c:pt idx="3">
                  <c:v>230.6</c:v>
                </c:pt>
                <c:pt idx="4">
                  <c:v>367.5</c:v>
                </c:pt>
                <c:pt idx="5">
                  <c:v>571.8</c:v>
                </c:pt>
                <c:pt idx="6">
                  <c:v>674.2</c:v>
                </c:pt>
                <c:pt idx="7">
                  <c:v>2160</c:v>
                </c:pt>
                <c:pt idx="8">
                  <c:v>3187</c:v>
                </c:pt>
                <c:pt idx="9">
                  <c:v>7154.2</c:v>
                </c:pt>
              </c:numCache>
            </c:numRef>
          </c:val>
        </c:ser>
        <c:gapWidth val="150"/>
        <c:shape val="cylinder"/>
        <c:axId val="41862325"/>
        <c:axId val="14978444"/>
        <c:axId val="0"/>
      </c:bar3DChart>
      <c:catAx>
        <c:axId val="41862325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4978444"/>
        <c:crosses val="autoZero"/>
        <c:auto val="1"/>
        <c:lblAlgn val="ctr"/>
        <c:lblOffset val="100"/>
        <c:noMultiLvlLbl val="0"/>
      </c:catAx>
      <c:valAx>
        <c:axId val="14978444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41862325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9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Расходы консолидированного бюджета Сенненского района за I полугодие 2018 году, рублей</a:t>
            </a:r>
          </a:p>
        </c:rich>
      </c:tx>
      <c:layout>
        <c:manualLayout>
          <c:xMode val="edge"/>
          <c:yMode val="edge"/>
          <c:x val="0.105222407185165"/>
          <c:y val="0.0124970386164416"/>
        </c:manualLayout>
      </c:layout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bar"/>
        <c:grouping val="stacked"/>
        <c:varyColors val="0"/>
        <c:ser>
          <c:idx val="0"/>
          <c:order val="0"/>
          <c:spPr>
            <a:solidFill>
              <a:srgbClr val="de6c3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Lbls>
            <c:numFmt formatCode="#,##0" sourceLinked="0"/>
            <c:dLbl>
              <c:idx val="0"/>
              <c:layout>
                <c:manualLayout>
                  <c:x val="0.0423372074154313"/>
                  <c:y val="-0.00208939140305923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491657892566298"/>
                  <c:y val="0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136571636823972"/>
                  <c:y val="0.00208939140305923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9120029155356"/>
                  <c:y val="-0.00626817420917769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Национальная оборона</c:v>
                </c:pt>
                <c:pt idx="1">
                  <c:v>Охрана окружающей среды</c:v>
                </c:pt>
                <c:pt idx="2">
                  <c:v>Национальная экономика</c:v>
                </c:pt>
                <c:pt idx="3">
                  <c:v>Физическая культура, спорт, культура и средства массовой информации</c:v>
                </c:pt>
                <c:pt idx="4">
                  <c:v>Социальная политика</c:v>
                </c:pt>
                <c:pt idx="5">
                  <c:v>Общегосударственная деятельность</c:v>
                </c:pt>
                <c:pt idx="6">
                  <c:v>Жилищно-коммунальные услуги и жилищное строительство</c:v>
                </c:pt>
                <c:pt idx="7">
                  <c:v>Здравоохранение</c:v>
                </c:pt>
                <c:pt idx="8">
                  <c:v>Образова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1</c:v>
                </c:pt>
                <c:pt idx="1">
                  <c:v>29224.45</c:v>
                </c:pt>
                <c:pt idx="2">
                  <c:v>559891.33</c:v>
                </c:pt>
                <c:pt idx="3">
                  <c:v>853264.75</c:v>
                </c:pt>
                <c:pt idx="4">
                  <c:v>926855.72</c:v>
                </c:pt>
                <c:pt idx="5">
                  <c:v>1354118.19</c:v>
                </c:pt>
                <c:pt idx="6">
                  <c:v>2172501.33</c:v>
                </c:pt>
                <c:pt idx="7">
                  <c:v>3186950.86</c:v>
                </c:pt>
                <c:pt idx="8">
                  <c:v>6972965.08</c:v>
                </c:pt>
              </c:numCache>
            </c:numRef>
          </c:val>
        </c:ser>
        <c:gapWidth val="150"/>
        <c:shape val="cylinder"/>
        <c:axId val="14198271"/>
        <c:axId val="90191632"/>
        <c:axId val="0"/>
      </c:bar3DChart>
      <c:catAx>
        <c:axId val="1419827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90191632"/>
        <c:crosses val="autoZero"/>
        <c:auto val="1"/>
        <c:lblAlgn val="ctr"/>
        <c:lblOffset val="100"/>
        <c:noMultiLvlLbl val="0"/>
      </c:catAx>
      <c:valAx>
        <c:axId val="90191632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#,##0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14198271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сходы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897326019883442"/>
          <c:y val="0.0823647140327919"/>
          <c:w val="0.808450462804251"/>
          <c:h val="0.561234700946809"/>
        </c:manualLayout>
      </c:layout>
      <c:pie3DChart>
        <c:varyColors val="1"/>
        <c:ser>
          <c:idx val="0"/>
          <c:order val="0"/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cf6da4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fa8d3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0"/>
          </c:dLbls>
          <c:cat>
            <c:strRef>
              <c:f>categories</c:f>
              <c:strCache>
                <c:ptCount val="6"/>
                <c:pt idx="0">
                  <c:v>Социальная сфера</c:v>
                </c:pt>
                <c:pt idx="1">
                  <c:v>Жилищно-коммунальные услуги и жилищное строительство</c:v>
                </c:pt>
                <c:pt idx="2">
                  <c:v>Общегосударственная деятельность</c:v>
                </c:pt>
                <c:pt idx="3">
                  <c:v>Национальная экономика</c:v>
                </c:pt>
                <c:pt idx="4">
                  <c:v>Охрана окружающей среды</c:v>
                </c:pt>
                <c:pt idx="5">
                  <c:v>Национальная оборон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1940036.41</c:v>
                </c:pt>
                <c:pt idx="1">
                  <c:v>2172501.33</c:v>
                </c:pt>
                <c:pt idx="2">
                  <c:v>1354118.19</c:v>
                </c:pt>
                <c:pt idx="3">
                  <c:v>559891.33</c:v>
                </c:pt>
                <c:pt idx="4">
                  <c:v>29224.45</c:v>
                </c:pt>
                <c:pt idx="5">
                  <c:v>21</c:v>
                </c:pt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циальная сфера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972965.08</c:v>
                </c:pt>
                <c:pt idx="1">
                  <c:v>3186950.86</c:v>
                </c:pt>
                <c:pt idx="2">
                  <c:v>853264.75</c:v>
                </c:pt>
                <c:pt idx="3">
                  <c:v>926855.72</c:v>
                </c:pt>
              </c:numCache>
            </c:numRef>
          </c:val>
        </c:ser>
        <c:ser>
          <c:idx val="1"/>
          <c:order val="1"/>
          <c:spPr>
            <a:solidFill>
              <a:srgbClr val="ac66bb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onstantia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F5BC1E-9281-4A5F-9C35-1837ABCE3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9FE2DE-543A-4567-94C3-0949B024BDF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BC2-308F-4FB4-B04C-01603D10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9BB-38DF-42D6-93AB-E0029835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4B2-CA7E-4230-9006-68D358B7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DD8-26D9-4455-94F9-D2C3E476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4994-A0BC-4744-975E-89D77547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B43-65EE-4B9F-97D1-C16E0ED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12FA-7D34-473B-9E64-980C4271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CC7B-A320-4BA4-8FFE-25244BDA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278B-DA30-4850-8429-033D8D96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0E9-80D1-44C3-B047-9519D06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3DB7-65DD-4860-AC52-51421786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17F-6057-4378-8B42-FFD49972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B8C7-97F7-4482-AA8A-DAD2203F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C08F-83FD-4931-9053-470B79A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DB8F-89D9-439E-B3EF-B4A2821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53B-1503-46FF-BA47-BB3904EF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886C-EBB4-4E86-9A19-9DC5D199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C4FC-81DB-4825-A366-420B63FF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F2FF-596D-493D-9D46-C85F780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615B-2DC8-440D-AD68-A958894B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7C7ED-0BA1-4289-A0A6-1960F387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4352-0D7A-4B92-886C-BCEC7E4D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E79-0CD4-4C4A-A342-3D8A9D0E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6D42-7675-47C1-9576-8BEDF3A7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7BE4-AC73-4AB0-A40E-4F0B899D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1D1D-F567-4C15-BD37-8AC4B39C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0639-4920-4BC9-AE94-583043BD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394A-8439-4D8D-92F0-15421865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A726-F238-44F3-BF8E-3EDCE0D0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5EEA-B207-42F0-8950-7E0A7370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4FAB-91DE-4C63-A7C6-B22F2B3B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0C899-1803-4591-8722-B129947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6185-39ED-41E8-8BBC-A55F80AB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887-286F-494C-AF7B-9FDB099B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8E0D-3975-4792-A759-94657BB5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63A7-2012-4D84-A2F6-5562FD35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B728F-3432-4B8D-B86D-434C780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12B4-8D33-4AD6-B05C-F6E0822A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AA74B-80F0-4D38-8732-553430C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8880-5176-4B9A-A115-BEF5DB7E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3166-E1EC-4770-9F0C-29F39755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5B317-3285-4A67-8E1B-F7E758E4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A3A4-9ABA-40FB-8733-B1557D9A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0B4-A6E8-447E-8873-D751E7A0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DA3-A55C-49E0-8C49-63A03616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2DD-1E91-4AB7-BBD6-7A846B7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7EF2-41C3-4422-8F22-3FCA8178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551-19BD-4F72-835F-C69EC52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FA2E82-1A21-45D6-AD39-47EE435C4BF6}" type="slidenum"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34590">
                  <a:alpha val="45098"/>
                </a:srgbClr>
              </a:gs>
              <a:gs pos="100000">
                <a:srgbClr val="f35307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a04bb4">
                  <a:alpha val="45098"/>
                </a:srgbClr>
              </a:gs>
              <a:gs pos="100000">
                <a:srgbClr val="b74814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7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8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35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b83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de6c36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b83d68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ac66bb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de6c36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87CE6-C606-4639-BC8C-6E56ABEC2451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e8637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e8637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575f6d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8637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575f6d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e8637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48B34C-77A9-4BF9-B1B6-738F40041A2B}" type="slidenum"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34590">
                  <a:alpha val="45098"/>
                </a:srgbClr>
              </a:gs>
              <a:gs pos="100000">
                <a:srgbClr val="f35307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a04bb4">
                  <a:alpha val="45098"/>
                </a:srgbClr>
              </a:gs>
              <a:gs pos="100000">
                <a:srgbClr val="b74814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7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38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35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9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b83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2A403F-0852-411B-8CBD-0911CC6FCE63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chart" Target="../charts/chart9.xml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857160" y="1071720"/>
            <a:ext cx="82864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ts val="4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Бюллетень об исполнении консолидированного бюджета Сенненского района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1 полугодие 2018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Диаграмма 3"/>
          <p:cNvGraphicFramePr/>
          <p:nvPr/>
        </p:nvGraphicFramePr>
        <p:xfrm>
          <a:off x="0" y="714240"/>
          <a:ext cx="9143640" cy="614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9" name="TextBox 2"/>
          <p:cNvSpPr/>
          <p:nvPr/>
        </p:nvSpPr>
        <p:spPr>
          <a:xfrm>
            <a:off x="828684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Рост платежей по доходным источникам </a:t>
            </a:r>
            <a:r>
              <a:rPr b="0" lang="ru-RU" sz="2200" spc="-1" strike="noStrike" cap="all">
                <a:solidFill>
                  <a:srgbClr val="575f6d"/>
                </a:solidFill>
                <a:latin typeface="Franklin Gothic Medium"/>
              </a:rPr>
              <a:t>(тыс. рублей)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1" name="Содержимое 3"/>
          <p:cNvGraphicFramePr/>
          <p:nvPr/>
        </p:nvGraphicFramePr>
        <p:xfrm>
          <a:off x="0" y="1071720"/>
          <a:ext cx="9143640" cy="5785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2" name="TextBox 4"/>
          <p:cNvSpPr/>
          <p:nvPr/>
        </p:nvSpPr>
        <p:spPr>
          <a:xfrm>
            <a:off x="83581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Снижение доходных источников </a:t>
            </a:r>
            <a:br>
              <a:rPr sz="3600"/>
            </a:br>
            <a:r>
              <a:rPr b="0" lang="ru-RU" sz="2200" spc="-1" strike="noStrike" cap="all">
                <a:solidFill>
                  <a:srgbClr val="575f6d"/>
                </a:solidFill>
                <a:latin typeface="Franklin Gothic Medium"/>
              </a:rPr>
              <a:t>(тыс. рублей)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4" name="Содержимое 3"/>
          <p:cNvGraphicFramePr/>
          <p:nvPr/>
        </p:nvGraphicFramePr>
        <p:xfrm>
          <a:off x="0" y="1285920"/>
          <a:ext cx="9143640" cy="55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5" name="TextBox 4"/>
          <p:cNvSpPr/>
          <p:nvPr/>
        </p:nvSpPr>
        <p:spPr>
          <a:xfrm>
            <a:off x="83581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Диаграмма 1"/>
          <p:cNvGraphicFramePr/>
          <p:nvPr/>
        </p:nvGraphicFramePr>
        <p:xfrm>
          <a:off x="0" y="857160"/>
          <a:ext cx="9143640" cy="6000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97" name="Диаграмма 2"/>
          <p:cNvGraphicFramePr/>
          <p:nvPr/>
        </p:nvGraphicFramePr>
        <p:xfrm>
          <a:off x="0" y="1571760"/>
          <a:ext cx="9143640" cy="5285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98" name="TextBox 3"/>
          <p:cNvSpPr/>
          <p:nvPr/>
        </p:nvSpPr>
        <p:spPr>
          <a:xfrm>
            <a:off x="285840" y="785880"/>
            <a:ext cx="85723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1 полугодии 2018 года, тыс. руб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828684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Диаграмма 1"/>
          <p:cNvGraphicFramePr/>
          <p:nvPr/>
        </p:nvGraphicFramePr>
        <p:xfrm>
          <a:off x="0" y="714240"/>
          <a:ext cx="9143640" cy="614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1" name="TextBox 2"/>
          <p:cNvSpPr/>
          <p:nvPr/>
        </p:nvSpPr>
        <p:spPr>
          <a:xfrm>
            <a:off x="8001000" y="214200"/>
            <a:ext cx="114264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Диаграмма 1"/>
          <p:cNvGraphicFramePr/>
          <p:nvPr/>
        </p:nvGraphicFramePr>
        <p:xfrm>
          <a:off x="-77400" y="389880"/>
          <a:ext cx="9298800" cy="6077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3" name="TextBox 2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971640" y="836640"/>
            <a:ext cx="66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уктура расходов консолидирован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ненского района за 1 полугодие 2018 г. (в процен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Диаграмма 4"/>
          <p:cNvGraphicFramePr/>
          <p:nvPr/>
        </p:nvGraphicFramePr>
        <p:xfrm>
          <a:off x="323640" y="1772640"/>
          <a:ext cx="4200120" cy="467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06" name="Диаграмма 5"/>
          <p:cNvGraphicFramePr/>
          <p:nvPr/>
        </p:nvGraphicFramePr>
        <p:xfrm>
          <a:off x="5220000" y="1845000"/>
          <a:ext cx="3742920" cy="4628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07" name="TextBox 6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Таблица 39"/>
          <p:cNvGraphicFramePr/>
          <p:nvPr/>
        </p:nvGraphicFramePr>
        <p:xfrm>
          <a:off x="467640" y="1989000"/>
          <a:ext cx="8208720" cy="4382280"/>
        </p:xfrm>
        <a:graphic>
          <a:graphicData uri="http://schemas.openxmlformats.org/drawingml/2006/table">
            <a:tbl>
              <a:tblPr/>
              <a:tblGrid>
                <a:gridCol w="4348440"/>
                <a:gridCol w="3860280"/>
              </a:tblGrid>
              <a:tr h="6807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иды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сего по органам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0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1.Долг органов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 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34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1.1Ценные бумаги (облиг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 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519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  <a:ea typeface="Calibri"/>
                        </a:rPr>
                        <a:t>1.2. Бюджет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  <a:ea typeface="Calibri"/>
                        </a:rPr>
                        <a:t>3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1701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2.Долг, гарантированный местными исполнительными и распорядительными органами по кредитам банков, выданным субъектам хозяй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88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34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ИТОГО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2 68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</a:tbl>
          </a:graphicData>
        </a:graphic>
      </p:graphicFrame>
      <p:cxnSp>
        <p:nvCxnSpPr>
          <p:cNvPr id="209" name="Прямая соединительная линия 48"/>
          <p:cNvCxnSpPr/>
          <p:nvPr/>
        </p:nvCxnSpPr>
        <p:spPr>
          <a:xfrm>
            <a:off x="2806560" y="9675720"/>
            <a:ext cx="362160" cy="360"/>
          </a:xfrm>
          <a:prstGeom prst="straightConnector1">
            <a:avLst/>
          </a:prstGeom>
          <a:ln>
            <a:solidFill>
              <a:srgbClr val="892c4c"/>
            </a:solidFill>
            <a:round/>
          </a:ln>
        </p:spPr>
      </p:cxnSp>
      <p:sp>
        <p:nvSpPr>
          <p:cNvPr id="210" name="Rectangle 67"/>
          <p:cNvSpPr/>
          <p:nvPr/>
        </p:nvSpPr>
        <p:spPr>
          <a:xfrm>
            <a:off x="395640" y="1183320"/>
            <a:ext cx="8280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ые обязательства органов местного управления и самоуправления Сенненского района на 1 июля 2018 г.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  <Words>197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2:26:12Z</dcterms:created>
  <dc:creator>doxod</dc:creator>
  <dc:description/>
  <dc:language>en-US</dc:language>
  <cp:lastModifiedBy>GVV</cp:lastModifiedBy>
  <dcterms:modified xsi:type="dcterms:W3CDTF">2018-08-01T07:39:49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